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61D0-8156-4198-AB7A-2A22C4A255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924-ED39-400D-8377-07F8BC84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F23-96FD-45D2-BEB4-FA63201A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F9E-5CCB-458E-A17E-BED3F014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D6E-C659-420B-A69F-E95BF6AB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B5EA-1016-48E4-B767-A08D2644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D7FC-51B1-473D-902C-17531EED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B641-CE2C-41F5-8349-DA5DFDBA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1776-537A-4F5D-8189-33D831A8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559D-6137-4119-968D-CA4A2C62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5316-EDBD-45FE-815A-75AC0B80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B4B2-3809-438D-B236-A23B6FE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DD5-9DED-431F-960C-F41B2ABA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97E9-591A-4BDF-BC22-37A5028D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6C9E-F4D0-4C92-8345-FBB278D8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7651-2FBC-419D-9FA0-D582C142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9119-C5B5-4FC3-BE78-537AFD04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900C-583C-41A7-A7F0-3741233B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0A2-4C96-4663-909E-085C28FC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BC8-1442-43F0-9A0E-C815E6AC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24B-2776-41C0-9443-DFEC32C4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AF2-E203-4D6E-B051-41667D05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8C1-FBF3-46D8-B298-0BE27938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8BC-B6E1-408A-B539-C58C4FA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2F7-CD30-4391-968D-6C55D96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9A99-C7C1-4EA6-BE22-34015B4234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D680-87CC-45B1-908A-F41F241C4F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66"/>
                </a:solidFill>
                <a:latin typeface="Arial"/>
              </a:rPr>
              <a:t>The effects of Internet on business</a:t>
            </a:r>
            <a:endParaRPr b="1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7021-FA14-474D-B704-4FF7A7D94EF1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idely applied in business fiel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unpredictabl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(10/05/20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640" y="37162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.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51600" y="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 descri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ld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Use of computer and internet in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is Accoun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nd-don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puteris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-Comme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jerry</cp:lastModifiedBy>
  <dcterms:modified xsi:type="dcterms:W3CDTF">2010-05-21T06:40:46Z</dcterms:modified>
  <cp:revision>20</cp:revision>
  <dc:subject/>
  <dc:title>Internet</dc:title>
</cp:coreProperties>
</file>